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7F5-E103-4180-967F-6E3139E7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43B6-C4C5-4847-9163-FB015CD9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525D-1C54-4276-AC55-CF49AD1B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CAEB-5E7D-4BA8-9D4C-736B9C6F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79A7-1EE2-4F88-A351-C8F2A66A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35AA-4471-4125-9FDA-2A529935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7205-4254-4AF6-B8E2-E0DEB458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FF31-DA0E-40BE-90F0-EE120CEB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5903-9196-4390-9AF3-D5DA4E7E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96CB-2AEF-4BE4-9603-62554943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55F6-A88C-4C76-B4D8-5C1E1335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73D4-33EA-4E8A-9107-79C642DE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6C3C-7FE8-4592-84CC-57955092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0445-82C7-49C1-9AEA-F2396721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F6E0-2434-4C6E-AC30-FAF3A3DD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07AC-4C9A-4735-9819-D1E79F2B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1C19-BA75-4C4B-AC5C-9EABEFE9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CDF1-6829-41BD-986F-94725201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292D-A3EE-4EAD-8ED5-5E278D21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9BA0-2B15-4BB6-ACE5-0B16FEAD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9BB-7539-499E-A6C6-D7B30523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DD0-E7BD-46E0-8204-8C3F7AC9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0D27-7A33-4BBD-9448-EA6351C9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19C-DFB8-457B-8480-3DFA1185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1E79-FD79-4FC9-A79C-A3A153E65B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8B71-BE58-40AD-8C11-FBC053F5F6D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Civics and Government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28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AN YOU EXPLAIN THESE TWO CONCEPTS IN YOUR OWN WORDS?  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cause a lot of you didn’t on your homework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rect Democrac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direct democracy exists when eligible citizens participate directly in the decision making proces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Picture 5" descr=""/>
          <p:cNvPicPr/>
          <p:nvPr/>
        </p:nvPicPr>
        <p:blipFill>
          <a:blip r:embed="rId1"/>
          <a:stretch/>
        </p:blipFill>
        <p:spPr>
          <a:xfrm>
            <a:off x="1523880" y="4343400"/>
            <a:ext cx="525492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presentative Democrac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representative democracy exists when eligible citizens vote for individuals that will in-turn represent their interests in government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is the type of democracy that we have in the United State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stitutional Monarch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ype of democracy with a hereditary ruler whose power is limited by the nation’s constitution and law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3276720" y="4038480"/>
            <a:ext cx="21841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uthoritarian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orm of government in which individual freedom is held as completely subordinate to the power or authority of the stat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uthoritarianism is centered either in one person or a small group that is not constitutionally accountable to the people. Citizens have the least political voice in an authoritarian syste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793800" y="1501920"/>
            <a:ext cx="6673680" cy="44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lated Ter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bsolute Monarchy, Dictatorship, and Totalitarianism are all terms that are closely associated with authoritarianism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rth Kore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e are going to examine the authoritarian state of North Korea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e will read, discuss, and analyze a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ultureGram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at describes the history, society, and government of North Korea and then we will watch National Geographic’s </a:t>
            </a: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Inside North Korea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6018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Civics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ivics is the study of the rights and duties of citizens and the functions and workings of the governme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b0f0"/>
                </a:solidFill>
                <a:uFillTx/>
                <a:latin typeface="Arial Black"/>
              </a:rPr>
              <a:t>It will also undoubtedly be the highlight of your school day and quite probably the highlight of your academic career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Government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Government is the power or authority that rules a country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1"/>
          <a:stretch/>
        </p:blipFill>
        <p:spPr>
          <a:xfrm>
            <a:off x="2438280" y="4038480"/>
            <a:ext cx="405936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urposes of Gover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re are four primary purposes of government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make and enforce law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provide servic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maintain ord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guide the commun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760" y="759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vels of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n the United States, there are three levels of government: local, state, and federal (national)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4883040" y="914400"/>
            <a:ext cx="43848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ighest Level of Governmental Authority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federal (national) government has the highest level of authority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was established under the United States Constitution and upheld by various Supreme Court ruling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rms of Gover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two basic forms of government are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Democrac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uthoritarianism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mocrac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119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emocracy is a form of government in which the people (citizens) hold the power to rule and make laws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 a democracy, the people have the most political voic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2209680" y="3457440"/>
            <a:ext cx="4419720" cy="34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Democrac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re are three basic types of democracy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irect Democrac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Representative Democrac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stitutional Monarch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12:51:08Z</dcterms:created>
  <dc:creator>Owner</dc:creator>
  <dc:description/>
  <dc:language>en-US</dc:language>
  <cp:lastModifiedBy>SysAdmin</cp:lastModifiedBy>
  <dcterms:modified xsi:type="dcterms:W3CDTF">2011-08-25T19:18:59Z</dcterms:modified>
  <cp:revision>72</cp:revision>
  <dc:subject/>
  <dc:title>What is Civics? </dc:title>
</cp:coreProperties>
</file>